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CBD-75E9-477C-BAC8-8DF35E7F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6F0F-6533-45F8-87E2-89E2EE9C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4E5-068C-498A-9159-7652E23C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55E-71F0-420F-A0F2-BF90FB43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3A1-7752-4398-909E-C51E881C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52A-F0CB-4223-861B-1C3F8383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2B9-EBA4-4FB4-9A86-66A8570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272-FCA1-4CAF-8E24-03C5589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1E3-9F0F-4327-9155-64201EC5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EA1-7CE9-43B0-8023-BB7D28F1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447-55ED-441D-9875-923A4CCA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B45-E50C-4DF2-B7A9-EE56E10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117-3A17-40B2-B7A2-1B1ED91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B61-8963-47A1-905B-BA6ED32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4609-9C8F-450E-9408-598F3A27D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86200"/>
            <a:ext cx="4876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sha tur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emos una fiesta quieres venir? Cuanto hente son tu lleva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khadija zulfiquar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ra. Tu debería modelo, tu teines cuerpo perfecto, tu son alt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celoso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, buena noches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Despertarse !!!  Mi aburrido ! Cuañdo son tu Despertarse?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51818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…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5943600"/>
            <a:ext cx="51055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02:58Z</dcterms:modified>
  <cp:revision>108</cp:revision>
  <dc:subject/>
  <dc:title>Profile</dc:title>
</cp:coreProperties>
</file>